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7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F81-9483-479E-91A2-9BC3B28E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E7D-BC22-4AF2-BB26-C6A4EFAF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62B-05C3-4AC1-ACFA-49B5B053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87A-F325-4A16-B803-633B7845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5272-F0BA-4C8F-A21A-320B6689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3161-0E90-4B17-B761-0907D30D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7241-FF2C-46BB-9149-F2D572ED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C7FF-7A90-4D49-85B6-67186647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C2A7-B959-4F1C-8ED5-0D6A5507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77FC-3961-4224-912D-2DC3D6B5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6750-FD8B-4840-8B3B-05F41087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917-99AE-42F0-8DFB-E251EAD3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4872-1D95-4797-AC34-5FD5428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6678-3CA1-4467-A5E9-D0CDBF14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AB8C-3CC3-4BA2-8E1E-793048B9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AB62-0D6D-4A5B-842A-FF663DCC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E966-7BC9-4D99-BB91-A2383317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41C-DDBD-4558-BB25-FDEF6972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147-E0AB-45D9-891D-3CDF1697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2BA-946E-442E-87E2-1B3C2A34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E74-53E6-48DC-BEC5-382BB5C2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660-9922-4A98-8C92-8E3A0E86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A6A-85CA-4A09-B65D-4E9B4566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B33F-E03D-4AB1-9C62-829457DD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47A0-DC23-4D58-9CB1-D489645F587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E4E4-420D-4712-A378-3C1C570C994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Narrativ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Level Media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580000" y="4114800"/>
            <a:ext cx="3240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Roland Barth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Action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nts within a story that we know will be significant in the narr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etallic sound of a gun being cocked signifies that a shooting will take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horthand way to signify a scene of vio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ction signifies another action and so the narrative prog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819840" y="0"/>
            <a:ext cx="2324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vzetan Todoro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Bulgarian theo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 reduced the concept of narrative to a simple recurring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quilibrium – disequilibrium – new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52464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2050920" y="4437000"/>
            <a:ext cx="32036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odoro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arrative starts with a state of equilibrium or harm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. A peaceful community getting on with and enjoying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 this stability comes a force of disequilibrium or disru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. An evil outsider intent on destroying the sense of well be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some mechanism such as the intervention of another outside agency, the force of evil is overcome and order/harmony are restored in the form of a new equilibr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odoro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ose a fictional or non-fictional text of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bout how it follows Todorov’s model of narr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3924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Levi Straus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9250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nary op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rative tension is based on opposition or confl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l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7340760" y="0"/>
            <a:ext cx="18032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Function of character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acter is an important aspect of narrative, particularly in fictional tex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soap operas certain character types consistently reoccur to the point where they become stereo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umpy old people…anger ridden teena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ing people into different categories like this is called character typ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Vladimir Prop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ssian structuralist who studied fairy 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established a number of character types and functions associated with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suggested the functions were limited to 3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possible to use Propp’s theory to fit the character types in a range of texts, especially feature fil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8005680" y="0"/>
            <a:ext cx="11383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Characters and Func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il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onor (offers gift with magical proper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ispatcher (sends hero on a mi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lper (aids h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incess (hero’s re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732720" y="1052640"/>
            <a:ext cx="206676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these characters in a fairy tale of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these characters in a Bond film (or any action fil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y the functions to a soap opera of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the functions work in more modern films, such as ‘Lord of the Rings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rop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aste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t and Alfie’s wed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llain – Andy H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o – Alfie, stops Kat from marrying a cruel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t tells Alfie she wants it to snow on her wedding day (dispatc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an aids Alfie in the preparations (hel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fie uses a snow machine to make it snow (do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o gets princess – Alfie gets Kat (prince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e A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o – A Team (Hannib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llain – the government/companies/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or – Hannibal – plan comes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lpers – Face, BA, Murd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patchers – those who employ them to fight their bat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ncess – Face gets the girl they are helping at th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2016360" cy="1446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2"/>
          <a:stretch/>
        </p:blipFill>
        <p:spPr>
          <a:xfrm>
            <a:off x="6588000" y="260280"/>
            <a:ext cx="22320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**Key Term**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ar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ay in which the story is told in both fictional and non-fictional tex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rative is a very powerful force that not only helps us make sense of the world, but also influences our behavi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media producers narrative is an important tool for organising seemingly random and incoherent events into a coherent and logical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rative can be used as a potent means of influencing the responses of an audience to a particular ev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determined by the way in which the information is 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p’s analysis may be applied to film with an amazing degree of accuracy, providing it is applied to straightforward narr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impossible to analyse films with more complicated narr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the above, with reference to at least three films of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Key questions to ask..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is the narrative organised and struc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is the audience positioned in relation to the narr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are characters delineated? What is their narrative function how are heroes and villains cre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echniques of identification and alienation are employ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role of features like sound, music, iconography, genre, mise-en-scene, editing etc within the narr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major themes of the narrative? What values/ideologies does it em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we are being told about a conflict, in a western or gangster movie, the narrative often unfolds in such a way as to make us take sides, in support of one party or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‘Butch Cassidy…’ we are firmly positioned on the side of Butch and Sund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rrative can be used to position the aud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67280" y="5013360"/>
            <a:ext cx="29340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he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e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an you see in the picture/on the p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the image suggest or imp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684360" y="170028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a theorists try to help us understand how we find meaning in a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611280" y="285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land Bar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692360" y="5732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nster.....the colour red....a skinny 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OldMan2-1000x1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Woman%20In%20Bl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ower_block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aids-strassenkid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Roland Barth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nigm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going to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arrative will establish enigmas or mysteries as it goes a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sentially, the narrative functions to establish and then solve these myst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in a film there is usually a central enigma that is resolved at th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diences take pleasure in anticipating what might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. Me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8:05:42Z</dcterms:created>
  <dc:creator>niall</dc:creator>
  <dc:description/>
  <dc:language>en-US</dc:language>
  <cp:lastModifiedBy>Grainne</cp:lastModifiedBy>
  <dcterms:modified xsi:type="dcterms:W3CDTF">2010-10-08T11:44:47Z</dcterms:modified>
  <cp:revision>10</cp:revision>
  <dc:subject/>
  <dc:title>Narrative</dc:title>
</cp:coreProperties>
</file>